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dt" idx="5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336B3-8DAA-4EF0-826D-E8D74FD49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0A163-C664-4810-AEE1-F5BF75DDA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8F266-9EA8-479E-8AC9-D5F03CA27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35AE1-EEB9-4D79-99FF-3EE595F02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DE101-1841-456E-A38C-53DE11A9A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232A9-6A33-4FC6-8F19-E9E94BC84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22098-E23C-496D-BACC-A24A341EA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B11AA-89E5-4939-BAB3-89E116E8D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88F7D-298C-4EFF-8977-6312C6321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BD86F-783E-482C-89C4-166DF97F7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36B81-FB65-4887-B1F4-7B897B67A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7ED37-59E8-4258-92A4-91F4C0141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EF6C0-FFC2-4218-B090-0CF6C9BA0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B6719-385E-41A2-8453-518904AE1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ADAB3-2F5F-40D6-A888-6542CAA81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18239-26E8-4D7B-B84F-FE1C90BFA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701E9-4A34-4752-B923-3D54B615C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7CF49-1905-486C-8B71-8B2DF4300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451AB-B275-412A-87AB-91ED9F42D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19B0E-D95B-4B23-881B-52713D485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DDDC7-D56B-439A-B09C-ED6EE6FBA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CFBE4-24C7-41D9-858D-427F2E408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CF535-07A9-496A-935C-1D7037261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AB1E9-AB29-4EDD-9D5E-FC030D8C5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9755E-D0C6-4EDC-BC23-FD61467C6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15BFA-03B6-4462-9DA4-67D5F7C5D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97399-0A30-435C-AD24-A7D025747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BD385-D2A3-4D49-B5D2-8B35315E3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49A81-B0D6-4FF2-A1CC-113821EB4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71C06-408C-44D5-AA98-A82AB1E7F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32732-AAFD-4D8E-8164-382988038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F2D7C-99F2-4B89-9E0E-A7BA6542F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18722-B66B-41F0-8500-45E215AC7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0615E-DBA3-45D5-94F5-C11F704D0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6BAB6-F59A-4592-9715-5D042A6F6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CB7FB-93A2-4038-AE22-7EFDE859F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4E0D9-5BEE-41E9-BB4C-8129DA8B9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8BD4E-55C6-45DD-A39E-CABDE8E5A3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97F86-0937-4C14-8EAB-F4EC09E12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5C710-74BC-489E-8BDA-6B919E820C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671CD-07F0-4365-BA4B-91CC1D2099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4F191-6C27-4FBC-A089-DF453FE2ED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52CED-A2B0-44FA-9B8D-8B97F4D21A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6B91B-5BE6-4FE1-8D2E-57B0A1A0FA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7152D-856D-4A3E-A3CA-21C49DC2D4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20A57-DBC3-423C-8093-F7DE09DE98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67C92-5B0E-4DB4-B1C8-BED5D8C156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FC310-F0F7-4CC9-A539-8BF09ACA0F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29C1C-819F-407C-A624-FD8B01751C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B717D-C831-4AFC-AD99-67B0BF7FFF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045E6-17E6-45C5-BA43-FAF34413CC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42586-0A58-4F6C-A3A3-7FFEE3EAE0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7B66C-C843-487E-98F9-56016AC9024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A87B-D547-4CC7-A8E6-A20E750A09A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E916-F4C5-4CA4-81BF-28C473AD39A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602E-69AA-43D8-8623-B53C44D2522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9206-28E1-4D6A-A96D-66648A8C186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25E3-0D6D-418B-8E56-9DD3D48D3E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44B57-175C-4DC4-869C-2A88E06668F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74B2-DF8E-445E-AD33-82D905F9C8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EC29-E079-427F-965A-CB070233A81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94E0-75F8-42E8-A5C7-E1F66CEF31F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01BF-6DE9-494A-AE3D-FC91FCD69B6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C64F-9407-4868-9ADC-E95BA06ABF9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F411-E210-4244-B8D3-900FF354D0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8A99-631C-4C60-9CF7-B4627CCCF38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DCB7A-0D86-47EE-B1D7-78938072DE5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31BE8A-7A92-4287-9FA6-1BD74124F8F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586AC-C33B-438C-904D-349FA701B5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CC5C2-1893-4661-97BF-1B3106B44E6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43E57-65C3-4FB9-8D6F-879E7C7C7A1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B5E0E-95A1-436D-B3C7-054DD4385E4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15A25-B9D3-41E3-B298-5DDBAEAC0D0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0542D-FC96-4085-9D4F-4517AD7C725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C38E3-5BAD-4583-A151-2222AE096EF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28E98-BC4D-4013-94B1-009043DED0B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6CF8C-7750-42E9-82DE-8AA141887AA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BD943-4434-4F56-9706-76BB654D01F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8C6E9-A6AE-4574-BE8B-D30E1265F1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087BF-5ED6-47DA-A1AA-DBAC5CB17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6E686-6152-4E2C-8258-E8B4A5B93C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7579E-EF3B-432E-99BB-205B361088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60FFA-F70C-4F92-90D8-0D2EF93EF0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0BA3D-98B6-4BE3-B042-1E714FB07E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413A0-B0FB-4E32-B72F-C79CFA98C33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FE70C-A9F4-48E3-8AF3-C763C81ACC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9F753-06A6-42E9-9D0C-4F21DA666F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F768F-D385-4267-90B6-1EDBE7D30A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1295280" y="304920"/>
            <a:ext cx="784872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Faculty of Medical Sciences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hysical medicine and rehabil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304920" y="2895480"/>
            <a:ext cx="86104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The third modu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ninth un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898989"/>
                </a:solidFill>
                <a:latin typeface="Calibri"/>
              </a:rPr>
              <a:t>REHABILITATION OF PATIENTS WITH THE LESION OF PERIPHERAL MOTOR NEU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c. Dr. Igor Sima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76320" y="227160"/>
            <a:ext cx="1441440" cy="198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Facial nerve le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8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The nervus facialis is the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VII cranial nerve which provides motor innervation of the mimic musculature and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parasympatetic innervation of the lacrimal, submandibular and sublingual glands, while providing gustative perception from the anterior two-thirds of tongue.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Its motor nucleus is located in the pons and on its exit from the brainstem it passes through the pontocerebellar angle, enters the bone canal (canalis nervi facialis-Fallopian canal) in the petrous bone and exits through the stylomastoid foramen under the ear, after which it branches and innervates the facial muscles (mimic musculature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Facial nerve le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533520" y="2209680"/>
            <a:ext cx="7924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The facial nerve lesions, regardless of the level, starting from the motor cells located in the motor nucleus in the pons to its ending branches, lead to peripheral facial pals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“peripheral facialis”, “prosopoplegia”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Bell's facial pal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457200" y="1828800"/>
            <a:ext cx="8381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often caus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Cold 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Special sensitivity to coolin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exposure of the face to the col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, “draught” near the open window of a car or train, wind blowin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Which leads to the sudden asymptomatic palsy of the mimic musculature on one side of the face and is call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BELL'S FACIAL PALSY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“paralysis a frigore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457200" y="277920"/>
            <a:ext cx="8229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nical pi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755640" y="993600"/>
            <a:ext cx="80773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asic criteria for diagnosing Bell's facial palsy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are as foll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udden beginning of one-sided paresys or palsy of the facial mus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Lack of signs of the CNS dam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Abscence of the middle ear diseas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or the posterior cranial fossa disease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otorhinolaryngologist and neurologi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spection reveals the follow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Facial assymetr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as a result of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palsy of one half of the facial mimic muscl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Half of the forehead is without wrinkl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eyebrow is lower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nasolabial fold is fla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at side of the mouth droop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1476360" y="1916280"/>
            <a:ext cx="70102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Medicamentous thera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rsing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Physical thera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Surg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8920" indent="-530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"/>
          <p:cNvSpPr/>
          <p:nvPr/>
        </p:nvSpPr>
        <p:spPr>
          <a:xfrm>
            <a:off x="457200" y="27792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33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457200" y="277920"/>
            <a:ext cx="8229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4540320" cy="33782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2"/>
          <a:stretch/>
        </p:blipFill>
        <p:spPr>
          <a:xfrm>
            <a:off x="4908600" y="2660760"/>
            <a:ext cx="4235400" cy="31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1"/>
          <p:cNvSpPr/>
          <p:nvPr/>
        </p:nvSpPr>
        <p:spPr>
          <a:xfrm>
            <a:off x="457200" y="277920"/>
            <a:ext cx="8229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4908600" y="2433600"/>
            <a:ext cx="4006800" cy="29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457200" y="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Peripheral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– nerve le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0" y="609480"/>
            <a:ext cx="9144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Upper extrem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Axillary nerve inju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Laesio nervi axillaris) leads t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palsy or paresis of the m. deltoideus, which is clinically manifested by inability to elevate the ar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raise) above the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should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Musculocutaneous nerve injury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Laesio nervi musculo-cutanei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eads t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palsy or paresis of the m.bicep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rachii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which is clinically manifested by inability t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flex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be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and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supin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rotate face-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the lower ar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adial nerve inju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aesio nervi radialis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leads t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palsy or paresis of the m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extens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initiates extens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of the lower-arm, hand and fing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which is clinically manifested by inability t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exte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straighte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the lower-arm, hand and fingers and gives a clinical picture o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"wrist drop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dianus nerve inju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Laesio nervi median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leads t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palsy or paresis of the m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flex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initiate bend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of the hand and first three fingers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which is clinically manifested by inability to flex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be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the hand and the first three fing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gives a clinical picture of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sr-CS" sz="2000" spc="-1" strike="noStrike">
                <a:solidFill>
                  <a:srgbClr val="000000"/>
                </a:solidFill>
                <a:latin typeface="Calibri"/>
              </a:rPr>
              <a:t>Benediction sign deformity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lnar nerve inju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Laesio nervi ulnar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leads t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palsy or paresis of the small muscles of the hand and flexors of the ring and little finger, which is clinically manifested by inability t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flex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bend) the ring and little finger, and weak finger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abduction and adduc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gives a clinical picture of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"claw hand</a:t>
            </a:r>
            <a:r>
              <a:rPr b="1" i="1" lang="sr-CS" sz="2000" spc="-1" strike="noStrike">
                <a:solidFill>
                  <a:srgbClr val="000000"/>
                </a:solidFill>
                <a:latin typeface="Calibri"/>
              </a:rPr>
              <a:t> deformity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457200" y="2746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ower extrem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e peroneal nerve injur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CS" sz="2200" spc="-1" strike="noStrike">
                <a:solidFill>
                  <a:srgbClr val="000000"/>
                </a:solidFill>
                <a:latin typeface="Calibri"/>
              </a:rPr>
              <a:t>Laesio nervi peronealis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ads to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palsy or paresis of the muscle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ich provide dorsal flexion of the foot and toes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which is clinically manifested by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the loss of dorsal flex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bending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of the foot and toes and inability to do heel-walk on the affected foot, and gives a clinical picture of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sr-CS" sz="2200" spc="-1" strike="noStrike">
                <a:solidFill>
                  <a:srgbClr val="000000"/>
                </a:solidFill>
                <a:latin typeface="Calibri"/>
              </a:rPr>
              <a:t>drop foot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The patient is unable to hold the foot up, and thus raises the thigh up while walking to decrease the risk of tripping, and the toes hit the ground first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("cock-walk  gait"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The posterior tibial nerve injur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CS" sz="2200" spc="-1" strike="noStrike">
                <a:solidFill>
                  <a:srgbClr val="000000"/>
                </a:solidFill>
                <a:latin typeface="Calibri"/>
              </a:rPr>
              <a:t>Laeio nervi tibialis posterio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leads to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palsy or paresis of the muscle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ich provide plantar flexion of the foot and toes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which is clinically manifested by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the lack of plantar flexion of the foot and toes and inability to do toe-walk on the affected foo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 During a stance phase of the affected leg, the limb support is on the heel first and then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comes the toe-dro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leaving the foot flat on the ground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("steppage </a:t>
            </a:r>
            <a:r>
              <a:rPr b="1" i="1" lang="sr-CS" sz="2200" spc="-1" strike="noStrike">
                <a:solidFill>
                  <a:srgbClr val="000000"/>
                </a:solidFill>
                <a:latin typeface="Calibri"/>
              </a:rPr>
              <a:t>gait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ANATOMOPHYSI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The peripheral nervous system conducts the stimuli from the periphery to the central nervous system and vice vers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The peripheral nervous system involv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Skeletomotor nerve cel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еfferent fib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Sensory nerve cel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аfferent cel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Vegetative nerve cel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of the sympaticus and parasympati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GENERAL PRINCIPLES OF PHYSICAL THERAPY FOR PERIPHERAL NERVE PAL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08120" indent="-708120" algn="just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708120"/>
                <a:tab algn="l" pos="1165320"/>
                <a:tab algn="l" pos="1622520"/>
                <a:tab algn="l" pos="2079720"/>
                <a:tab algn="l" pos="2536920"/>
                <a:tab algn="l" pos="2994120"/>
                <a:tab algn="l" pos="3451320"/>
                <a:tab algn="l" pos="3908520"/>
                <a:tab algn="l" pos="4365720"/>
                <a:tab algn="l" pos="4822920"/>
                <a:tab algn="l" pos="5280120"/>
                <a:tab algn="l" pos="5737320"/>
                <a:tab algn="l" pos="6194520"/>
                <a:tab algn="l" pos="6651720"/>
                <a:tab algn="l" pos="7108920"/>
                <a:tab algn="l" pos="7566120"/>
                <a:tab algn="l" pos="8023320"/>
                <a:tab algn="l" pos="8480520"/>
                <a:tab algn="l" pos="8937720"/>
                <a:tab algn="l" pos="9394920"/>
                <a:tab algn="l" pos="98521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Unlike the central motor neurons, the peripheral nerves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are capable of regener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08120" indent="-7081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08120"/>
                <a:tab algn="l" pos="1165320"/>
                <a:tab algn="l" pos="1622520"/>
                <a:tab algn="l" pos="2079720"/>
                <a:tab algn="l" pos="2536920"/>
                <a:tab algn="l" pos="2994120"/>
                <a:tab algn="l" pos="3451320"/>
                <a:tab algn="l" pos="3908520"/>
                <a:tab algn="l" pos="4365720"/>
                <a:tab algn="l" pos="4822920"/>
                <a:tab algn="l" pos="5280120"/>
                <a:tab algn="l" pos="5737320"/>
                <a:tab algn="l" pos="6194520"/>
                <a:tab algn="l" pos="6651720"/>
                <a:tab algn="l" pos="7108920"/>
                <a:tab algn="l" pos="7566120"/>
                <a:tab algn="l" pos="8023320"/>
                <a:tab algn="l" pos="8480520"/>
                <a:tab algn="l" pos="8937720"/>
                <a:tab algn="l" pos="9394920"/>
                <a:tab algn="l" pos="98521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enabling thus the functional recove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hich c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ake various amounts of ti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depending on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3800" indent="-606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08120"/>
                <a:tab algn="l" pos="1165320"/>
                <a:tab algn="l" pos="1622520"/>
                <a:tab algn="l" pos="2079720"/>
                <a:tab algn="l" pos="2536920"/>
                <a:tab algn="l" pos="2994120"/>
                <a:tab algn="l" pos="3451320"/>
                <a:tab algn="l" pos="3908520"/>
                <a:tab algn="l" pos="4365720"/>
                <a:tab algn="l" pos="4822920"/>
                <a:tab algn="l" pos="5280120"/>
                <a:tab algn="l" pos="5737320"/>
                <a:tab algn="l" pos="6194520"/>
                <a:tab algn="l" pos="6651720"/>
                <a:tab algn="l" pos="7108920"/>
                <a:tab algn="l" pos="7566120"/>
                <a:tab algn="l" pos="8023320"/>
                <a:tab algn="l" pos="8480520"/>
                <a:tab algn="l" pos="8937720"/>
                <a:tab algn="l" pos="9394920"/>
                <a:tab algn="l" pos="985212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level of lesion and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3800" indent="-606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08120"/>
                <a:tab algn="l" pos="1165320"/>
                <a:tab algn="l" pos="1622520"/>
                <a:tab algn="l" pos="2079720"/>
                <a:tab algn="l" pos="2536920"/>
                <a:tab algn="l" pos="2994120"/>
                <a:tab algn="l" pos="3451320"/>
                <a:tab algn="l" pos="3908520"/>
                <a:tab algn="l" pos="4365720"/>
                <a:tab algn="l" pos="4822920"/>
                <a:tab algn="l" pos="5280120"/>
                <a:tab algn="l" pos="5737320"/>
                <a:tab algn="l" pos="6194520"/>
                <a:tab algn="l" pos="6651720"/>
                <a:tab algn="l" pos="7108920"/>
                <a:tab algn="l" pos="7566120"/>
                <a:tab algn="l" pos="8023320"/>
                <a:tab algn="l" pos="8480520"/>
                <a:tab algn="l" pos="8937720"/>
                <a:tab algn="l" pos="9394920"/>
                <a:tab algn="l" pos="985212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Degree of damage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3800" indent="-606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08120"/>
                <a:tab algn="l" pos="1165320"/>
                <a:tab algn="l" pos="1622520"/>
                <a:tab algn="l" pos="2079720"/>
                <a:tab algn="l" pos="2536920"/>
                <a:tab algn="l" pos="2994120"/>
                <a:tab algn="l" pos="3451320"/>
                <a:tab algn="l" pos="3908520"/>
                <a:tab algn="l" pos="4365720"/>
                <a:tab algn="l" pos="4822920"/>
                <a:tab algn="l" pos="5280120"/>
                <a:tab algn="l" pos="5737320"/>
                <a:tab algn="l" pos="6194520"/>
                <a:tab algn="l" pos="6651720"/>
                <a:tab algn="l" pos="7108920"/>
                <a:tab algn="l" pos="7566120"/>
                <a:tab algn="l" pos="8023320"/>
                <a:tab algn="l" pos="8480520"/>
                <a:tab algn="l" pos="8937720"/>
                <a:tab algn="l" pos="9394920"/>
                <a:tab algn="l" pos="98521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timely and adequate medicamentous and physical treatment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0" y="277920"/>
            <a:ext cx="91440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Physical therapy  – tasks and ai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To provide optimal conditions for the tissue regeneration and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Maintain the effectors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(muscles) until the nerve regeneration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For the purpose of achieving maximum possible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function recovery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rse of recove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1219320" y="1905120"/>
            <a:ext cx="7467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521000" indent="-60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romanUcPeriod"/>
              <a:tabLst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207800"/>
                <a:tab algn="l" pos="106650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stage of movement disorder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(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paralysi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1000" indent="-60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romanUcPeriod"/>
              <a:tabLst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207800"/>
                <a:tab algn="l" pos="106650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stage of recovery of the damaged nerve functio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(paresys)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1000" indent="-60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romanUcPeriod"/>
              <a:tabLst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207800"/>
                <a:tab algn="l" pos="106650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stage of permanent sequels of palsy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Physical treat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02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30280"/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Is a very important component in the process of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restoring functioning of the patients with peripheral motor neuron diseas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02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30280"/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The treatment of PMN lesions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includes almost all physical procedures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, but the following trias is most important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68640" indent="-339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alibri"/>
              <a:buAutoNum type="arabicPeriod"/>
              <a:tabLst>
                <a:tab algn="l" pos="530280"/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cc6600"/>
                </a:solidFill>
                <a:latin typeface="Calibri"/>
                <a:ea typeface="Microsoft YaHei"/>
              </a:rPr>
              <a:t>Therm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68640" indent="-339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alibri"/>
              <a:buAutoNum type="arabicPeriod"/>
              <a:tabLst>
                <a:tab algn="l" pos="530280"/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cc6600"/>
                </a:solidFill>
                <a:latin typeface="Calibri"/>
                <a:ea typeface="Microsoft YaHei"/>
              </a:rPr>
              <a:t>Electr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68640" indent="-339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alibri"/>
              <a:buAutoNum type="arabicPeriod"/>
              <a:tabLst>
                <a:tab algn="l" pos="530280"/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cc6600"/>
                </a:solidFill>
                <a:latin typeface="Calibri"/>
                <a:ea typeface="Microsoft YaHei"/>
              </a:rPr>
              <a:t>Kinesitherapy</a:t>
            </a:r>
            <a:r>
              <a:rPr b="1" lang="sr-Latn-CS" sz="2800" spc="-1" strike="noStrike">
                <a:solidFill>
                  <a:srgbClr val="cc6600"/>
                </a:solidFill>
                <a:latin typeface="Calibri"/>
                <a:ea typeface="Microsoft YaHei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alibri"/>
                <a:ea typeface="Microsoft YaHe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Verdana"/>
              </a:rPr>
              <a:t>Longitudinal galvanization along the nerve projection and ЕS with exponential current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324160" y="2178000"/>
            <a:ext cx="4495680" cy="33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Technique of electrostimu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696960" y="2529000"/>
            <a:ext cx="3558960" cy="2668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2"/>
          <a:stretch/>
        </p:blipFill>
        <p:spPr>
          <a:xfrm>
            <a:off x="4876920" y="2590920"/>
            <a:ext cx="342900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Е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bipolar and monopolar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4800600" y="2362320"/>
            <a:ext cx="3862440" cy="289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Parameters for electrostimu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22860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arameters for electrostimulation are determined according to Manual Muscle Testing Grading System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 approximate impulse and pause duration 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depending on the grade of peripheral pal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evere dysfunction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---------( 500-100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/ 2000 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oderate dysfunction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----( 250-50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/ 100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ild dysfunction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------------( 50-125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/ 250-50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Normal muscle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---------------( 0,1- 3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/ 2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Е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2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type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 500/2000,  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grade from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 0-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Е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1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type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 250/500,   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grade from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 2+ -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Kinesitherap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according to MM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2514600" y="2209680"/>
            <a:ext cx="61722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Pass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“0”, “1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e assisted(“2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“3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e resisted (“4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1066680" y="15228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ETIOLOGY OF THE PMN DAM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just">
              <a:lnSpc>
                <a:spcPct val="10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Infec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virus herpes zoster, virus hepatita, polyo virus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etc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just">
              <a:lnSpc>
                <a:spcPct val="10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Intoxic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alcoho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carbon-monoxide, parathion, carbon-disulfid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heavy metal poisoning, botulism, toxin dyphteria, drug poisoning etc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just">
              <a:lnSpc>
                <a:spcPct val="10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etabolic disorder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uremia, porphyria, amyloidosis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beriberi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alcoholism, hyper and hypothyreoidism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etc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just">
              <a:lnSpc>
                <a:spcPct val="10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Tumo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benign and malignant tumor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just">
              <a:lnSpc>
                <a:spcPct val="10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Compress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discus herni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spondylophytes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and osteophyt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traumatic compress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just">
              <a:lnSpc>
                <a:spcPct val="10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Section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traumatic section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with a sharp knife or sharp bone fragment in a bone fractur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Hydrokinesithera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Favourable effect of exercising in water is mainly based on the following princip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cording to Archimedes’ principle,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object immersed in a fluid experiences an apparent weight loss equal to the weight of the fluid displaced, and also a decreased impact of gravity, which helps muscles, whose strength is insufficient for performing land movements, to easily perform exercises in water. water temperature reduces muscle spasm and improves circulatio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uscle weakness, greater efficacy in exercise has a beneficial psychological effec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672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Dosed training load</a:t>
            </a: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Progressive increase and decrease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ascending and descending</a:t>
            </a: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crescendo and decrescen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533520" y="1828800"/>
            <a:ext cx="85341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Oxford exercise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repetitive maximums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are determined once a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Then 3 series of 10 contractions 5 times a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contractions with max. l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contractions with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2/3 ma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contractions with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½ ma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De-Lorme method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Progressive resistance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 exercis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sr-Latn-CS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repetitive maximums are determined once  a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Then 3 series of 10 contractions 5 times a wee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contractions with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½ ma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contractions with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2/3 ma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10 contractions with max. l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Sensory reedu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0" y="1295280"/>
            <a:ext cx="8915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 the palsy of the peripheral nerves which have abundant sensory innervation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uch as the lesion of the N. medianus, due to axonal disruption, which is almost inevitable occurrence in the lesion of the N. medianus, such as a neurotmesis injury, there occurs wrong reinnervation of the receptors, which is accompanied b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stereogno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(inability to identify the shape, size, weight and type of the material which is placed in the patient's hand, in the absence of visual stimuli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Stereognosis train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volves manual exploration of different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shapes, sizes, weights and textures of the obj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 the first three fingers of the corresponding hand (the skin of other fingers is protected with a glove) without using one's visual skill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ORTHO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Prevent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swelling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Contractures and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Overstretching of the paralyzed mus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Reduces 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457200" y="0"/>
            <a:ext cx="82296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RECOVERY S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87480" indent="-530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Therm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Electr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Galvanic current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Hydrogalvanic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(hydroelectric) baths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Drug electrophoresi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Vasodilato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, </a:t>
            </a:r>
            <a:r>
              <a:rPr b="1" i="1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Аnalges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Bernard'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(DDC)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current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Exponential current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IF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Hydr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Laser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Magnet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Ultrasound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Manual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Kinesi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analgetic proced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"/>
          <p:cNvSpPr/>
          <p:nvPr/>
        </p:nvSpPr>
        <p:spPr>
          <a:xfrm>
            <a:off x="457200" y="1600200"/>
            <a:ext cx="83059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Anode galv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Electroforesis of Novoc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DD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duc's current "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Ultra-Reiz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" or Ultrastimulation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currents (by Trabert)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I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LEVELS OF DAMA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LESION LOC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1752480" y="2666880"/>
            <a:ext cx="67820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Segmenta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– radicular le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Periphera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– nerve le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GRADAT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DEGREE OF NERVE DA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Neuropraxi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nerve contu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is a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transitor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isorder of the nerve function caused by effect of trau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Axonotmes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axon disrup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is a pathoanatomical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injury of the axons and their myelin sheath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hereby Schwann's sheaths are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tubu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mainly undisturbed, which is the reason for considering axonotmesi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 nerve lesion “in continuity“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Neurotmesi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is 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complete nerve disruptio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most severe form of an injury, whereby its distal segment is subject to Wallerian degenerat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457200" y="94284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DIAGNOSING THE LESIONS OF THE PERIPHERAL NER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1258920" y="2205000"/>
            <a:ext cx="647712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lnSpc>
                <a:spcPct val="70000"/>
              </a:lnSpc>
              <a:spcBef>
                <a:spcPts val="700"/>
              </a:spcBef>
              <a:spcAft>
                <a:spcPts val="1199"/>
              </a:spcAft>
              <a:buClr>
                <a:srgbClr val="80008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X-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70000"/>
              </a:lnSpc>
              <a:spcBef>
                <a:spcPts val="700"/>
              </a:spcBef>
              <a:spcAft>
                <a:spcPts val="1199"/>
              </a:spcAft>
              <a:buClr>
                <a:srgbClr val="80008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C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computerized tomography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70000"/>
              </a:lnSpc>
              <a:spcBef>
                <a:spcPts val="700"/>
              </a:spcBef>
              <a:spcAft>
                <a:spcPts val="1199"/>
              </a:spcAft>
              <a:buClr>
                <a:srgbClr val="80008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NMR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nuclear magnetic resonance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70000"/>
              </a:lnSpc>
              <a:spcBef>
                <a:spcPts val="700"/>
              </a:spcBef>
              <a:spcAft>
                <a:spcPts val="1199"/>
              </a:spcAft>
              <a:buClr>
                <a:srgbClr val="80008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MYELOGRAPH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70000"/>
              </a:lnSpc>
              <a:spcBef>
                <a:spcPts val="700"/>
              </a:spcBef>
              <a:spcAft>
                <a:spcPts val="1199"/>
              </a:spcAft>
              <a:buClr>
                <a:srgbClr val="80008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ELECTROMYOGRAPH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70000"/>
              </a:lnSpc>
              <a:spcBef>
                <a:spcPts val="700"/>
              </a:spcBef>
              <a:spcAft>
                <a:spcPts val="1199"/>
              </a:spcAft>
              <a:buClr>
                <a:srgbClr val="80008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LABORATO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Clinical examination of the motor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2286000" y="2286000"/>
            <a:ext cx="5486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Insp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T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Streng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Reflex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Coordin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" descr=""/>
          <p:cNvPicPr/>
          <p:nvPr/>
        </p:nvPicPr>
        <p:blipFill>
          <a:blip r:embed="rId1"/>
          <a:srcRect l="0" t="0" r="22589" b="0"/>
          <a:stretch/>
        </p:blipFill>
        <p:spPr>
          <a:xfrm>
            <a:off x="4038480" y="1752480"/>
            <a:ext cx="1828800" cy="313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457200" y="277920"/>
            <a:ext cx="815328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anual muscle test (MMT) for evaluation of muscle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grade "5"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(100% of muscle strength or func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grade "4"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(75% of muscle strength or func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grade “3"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(50% of muscle strength or func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grade "2"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(25% of muscle strength or func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grade "1"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(10% of muscle strength or func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grade "0"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(0% of muscle strength or func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Grade "5"   - maintained muscle fun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Grade 1, 2, 3, 4   - paresys or partial muscle strength or fun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Grade "0" -  paralysis or complete loss of muscle fun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6:35:23Z</dcterms:created>
  <dc:creator>Mark Ricard</dc:creator>
  <dc:description/>
  <dc:language>en-US</dc:language>
  <cp:lastModifiedBy>Nada Miklja</cp:lastModifiedBy>
  <dcterms:modified xsi:type="dcterms:W3CDTF">2023-09-27T08:32:24Z</dcterms:modified>
  <cp:revision>44</cp:revision>
  <dc:subject/>
  <dc:title>Introduction To Manual Muscle Testing</dc:title>
</cp:coreProperties>
</file>